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7"/>
          <p:cNvSpPr/>
          <p:nvPr/>
        </p:nvSpPr>
        <p:spPr>
          <a:xfrm>
            <a:off x="1665360" y="90792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宋体"/>
                <a:ea typeface="宋体"/>
              </a:rPr>
              <a:t>比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116000" y="198612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按比例分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447840" y="57340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29640" y="4221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779400" y="1413000"/>
            <a:ext cx="7416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校把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棵树的任务，按照六年级三个班的人数分配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各班。一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，二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，三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。三个班各应栽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少棵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应用，拓展思路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12920" y="2543040"/>
            <a:ext cx="2519280" cy="188316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方法一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（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一班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（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二班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（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三班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（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316160" y="4610160"/>
            <a:ext cx="3240000" cy="2211480"/>
            <a:chOff x="1316160" y="4610160"/>
            <a:chExt cx="3240000" cy="2211480"/>
          </a:xfrm>
        </p:grpSpPr>
        <p:sp>
          <p:nvSpPr>
            <p:cNvPr id="155" name=""/>
            <p:cNvSpPr/>
            <p:nvPr/>
          </p:nvSpPr>
          <p:spPr>
            <a:xfrm>
              <a:off x="1316160" y="4610160"/>
              <a:ext cx="3240000" cy="211716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方法二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6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︰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︰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︰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︰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一班：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棵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二班：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棵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三班：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棵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2244960" y="5408640"/>
              <a:ext cx="1547640" cy="605160"/>
              <a:chOff x="2244960" y="5408640"/>
              <a:chExt cx="1547640" cy="605160"/>
            </a:xfrm>
          </p:grpSpPr>
          <p:sp>
            <p:nvSpPr>
              <p:cNvPr id="157" name=""/>
              <p:cNvSpPr/>
              <p:nvPr/>
            </p:nvSpPr>
            <p:spPr>
              <a:xfrm>
                <a:off x="2244960" y="5664240"/>
                <a:ext cx="154764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619720" y="5408640"/>
                <a:ext cx="64764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341800" y="5727600"/>
                <a:ext cx="94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54320" y="5816520"/>
              <a:ext cx="1547640" cy="605160"/>
              <a:chOff x="2254320" y="5816520"/>
              <a:chExt cx="1547640" cy="605160"/>
            </a:xfrm>
          </p:grpSpPr>
          <p:sp>
            <p:nvSpPr>
              <p:cNvPr id="161" name=""/>
              <p:cNvSpPr/>
              <p:nvPr/>
            </p:nvSpPr>
            <p:spPr>
              <a:xfrm>
                <a:off x="2254320" y="6072120"/>
                <a:ext cx="154764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29080" y="5816520"/>
                <a:ext cx="64764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51160" y="6135480"/>
                <a:ext cx="94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239920" y="6216840"/>
              <a:ext cx="1547640" cy="604800"/>
              <a:chOff x="2239920" y="6216840"/>
              <a:chExt cx="1547640" cy="604800"/>
            </a:xfrm>
          </p:grpSpPr>
          <p:sp>
            <p:nvSpPr>
              <p:cNvPr id="165" name=""/>
              <p:cNvSpPr/>
              <p:nvPr/>
            </p:nvSpPr>
            <p:spPr>
              <a:xfrm>
                <a:off x="2239920" y="6472080"/>
                <a:ext cx="154764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14680" y="6216840"/>
                <a:ext cx="64764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36760" y="6535440"/>
                <a:ext cx="94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4892760" y="2492280"/>
            <a:ext cx="3240000" cy="1879920"/>
            <a:chOff x="4892760" y="2492280"/>
            <a:chExt cx="3240000" cy="1879920"/>
          </a:xfrm>
        </p:grpSpPr>
        <p:sp>
          <p:nvSpPr>
            <p:cNvPr id="169" name=""/>
            <p:cNvSpPr/>
            <p:nvPr/>
          </p:nvSpPr>
          <p:spPr>
            <a:xfrm>
              <a:off x="4892760" y="2492280"/>
              <a:ext cx="3240000" cy="17989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方法三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一班：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棵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二班：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棵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三班：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棵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821560" y="2925720"/>
              <a:ext cx="1547640" cy="605160"/>
              <a:chOff x="5821560" y="2925720"/>
              <a:chExt cx="1547640" cy="605160"/>
            </a:xfrm>
          </p:grpSpPr>
          <p:sp>
            <p:nvSpPr>
              <p:cNvPr id="171" name=""/>
              <p:cNvSpPr/>
              <p:nvPr/>
            </p:nvSpPr>
            <p:spPr>
              <a:xfrm>
                <a:off x="5821560" y="3181320"/>
                <a:ext cx="154764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6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6320" y="2925720"/>
                <a:ext cx="64764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918400" y="3244680"/>
                <a:ext cx="94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5830920" y="3341520"/>
              <a:ext cx="1547640" cy="605160"/>
              <a:chOff x="5830920" y="3341520"/>
              <a:chExt cx="1547640" cy="605160"/>
            </a:xfrm>
          </p:grpSpPr>
          <p:sp>
            <p:nvSpPr>
              <p:cNvPr id="175" name=""/>
              <p:cNvSpPr/>
              <p:nvPr/>
            </p:nvSpPr>
            <p:spPr>
              <a:xfrm>
                <a:off x="5830920" y="3597120"/>
                <a:ext cx="154764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6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05680" y="3341520"/>
                <a:ext cx="64764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27760" y="3660480"/>
                <a:ext cx="94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816520" y="3767040"/>
              <a:ext cx="1547640" cy="605160"/>
              <a:chOff x="5816520" y="3767040"/>
              <a:chExt cx="1547640" cy="605160"/>
            </a:xfrm>
          </p:grpSpPr>
          <p:sp>
            <p:nvSpPr>
              <p:cNvPr id="179" name=""/>
              <p:cNvSpPr/>
              <p:nvPr/>
            </p:nvSpPr>
            <p:spPr>
              <a:xfrm>
                <a:off x="5816520" y="4022640"/>
                <a:ext cx="154764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6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91280" y="3767040"/>
                <a:ext cx="64764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13360" y="4086000"/>
                <a:ext cx="94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4902120" y="4581360"/>
            <a:ext cx="2519280" cy="162756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方法四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（人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（人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一班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（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二班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（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三班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（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971640" y="2419200"/>
            <a:ext cx="87138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二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77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知识铺垫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11280" y="3573360"/>
            <a:ext cx="726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这个信息中你能想到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390680" y="4203720"/>
            <a:ext cx="72532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这个信息能确定这个兴趣小组男生和女生各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少人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3"/>
          <p:cNvSpPr/>
          <p:nvPr/>
        </p:nvSpPr>
        <p:spPr>
          <a:xfrm>
            <a:off x="979560" y="2286000"/>
            <a:ext cx="7092720" cy="605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学兴趣小组男生和女生的人数比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7840" y="57340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3840" y="59500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77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创设情境，导入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900000" y="4278240"/>
            <a:ext cx="57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什么是稀释液？什么是浓缩液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11280" y="1455840"/>
            <a:ext cx="51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创设情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1679400" y="4753080"/>
            <a:ext cx="4307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稀释液怎么配制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376280" y="1792440"/>
            <a:ext cx="5529240" cy="2155680"/>
            <a:chOff x="1376280" y="1792440"/>
            <a:chExt cx="5529240" cy="2155680"/>
          </a:xfrm>
        </p:grpSpPr>
        <p:sp>
          <p:nvSpPr>
            <p:cNvPr id="54" name=""/>
            <p:cNvSpPr/>
            <p:nvPr/>
          </p:nvSpPr>
          <p:spPr>
            <a:xfrm>
              <a:off x="1376280" y="2079720"/>
              <a:ext cx="3529080" cy="17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这是某种清洁剂浓缩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稀释瓶，瓶子上标明的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表示浓缩液和水的体积之比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按照这些比，可以配制出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同浓度的稀释液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924440" y="1792440"/>
              <a:ext cx="1981080" cy="2155680"/>
              <a:chOff x="4924440" y="1792440"/>
              <a:chExt cx="1981080" cy="2155680"/>
            </a:xfrm>
          </p:grpSpPr>
          <p:pic>
            <p:nvPicPr>
              <p:cNvPr id="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24440" y="1792440"/>
                <a:ext cx="1190520" cy="21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329520" y="2081520"/>
                <a:ext cx="576000" cy="180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" name=""/>
          <p:cNvSpPr/>
          <p:nvPr/>
        </p:nvSpPr>
        <p:spPr>
          <a:xfrm>
            <a:off x="447840" y="57340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3840" y="59500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11280" y="1450800"/>
            <a:ext cx="51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阅读与理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77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创设情境，导入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00000" y="4278240"/>
            <a:ext cx="655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题目中要分配什么？是按什么进行分配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706400" y="4724280"/>
            <a:ext cx="6250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5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配好的稀释液的体积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什么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692360" y="5157720"/>
            <a:ext cx="6249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要解决的问题是什么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050920" y="1989000"/>
            <a:ext cx="3718080" cy="216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47840" y="57340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840" y="59500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77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创设情境，导入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46160" y="5661000"/>
            <a:ext cx="716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信息画出线段图；说一说线段图所表示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11280" y="1465200"/>
            <a:ext cx="51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分析与解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57240" y="6094440"/>
            <a:ext cx="2786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独立尝试解决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56000" y="2041560"/>
            <a:ext cx="3405240" cy="19778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2301840" y="4043520"/>
            <a:ext cx="3651120" cy="1574280"/>
            <a:chOff x="2301840" y="4043520"/>
            <a:chExt cx="3651120" cy="1574280"/>
          </a:xfrm>
        </p:grpSpPr>
        <p:sp>
          <p:nvSpPr>
            <p:cNvPr id="74" name=""/>
            <p:cNvSpPr/>
            <p:nvPr/>
          </p:nvSpPr>
          <p:spPr>
            <a:xfrm>
              <a:off x="3402000" y="4043520"/>
              <a:ext cx="17272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毫升稀释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301840" y="4869000"/>
              <a:ext cx="863640" cy="703080"/>
              <a:chOff x="2301840" y="4869000"/>
              <a:chExt cx="863640" cy="703080"/>
            </a:xfrm>
          </p:grpSpPr>
          <p:sp>
            <p:nvSpPr>
              <p:cNvPr id="76" name=""/>
              <p:cNvSpPr/>
              <p:nvPr/>
            </p:nvSpPr>
            <p:spPr>
              <a:xfrm flipV="1" rot="16200000">
                <a:off x="2575080" y="4617360"/>
                <a:ext cx="216000" cy="718920"/>
              </a:xfrm>
              <a:custGeom>
                <a:avLst/>
                <a:gdLst>
                  <a:gd name="textAreaLeft" fmla="*/ 137880 w 216000"/>
                  <a:gd name="textAreaRight" fmla="*/ 216360 w 216000"/>
                  <a:gd name="textAreaTop" fmla="*/ 18720 h 718920"/>
                  <a:gd name="textAreaBottom" fmla="*/ 700200 h 71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301840" y="4991400"/>
                <a:ext cx="86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浓缩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354400" y="4413240"/>
              <a:ext cx="3598560" cy="1204560"/>
              <a:chOff x="2354400" y="4413240"/>
              <a:chExt cx="3598560" cy="120456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2357280" y="4726080"/>
                <a:ext cx="3582360" cy="71280"/>
                <a:chOff x="2357280" y="4726080"/>
                <a:chExt cx="3582360" cy="71280"/>
              </a:xfrm>
            </p:grpSpPr>
            <p:grpSp>
              <p:nvGrpSpPr>
                <p:cNvPr id="80" name=""/>
                <p:cNvGrpSpPr/>
                <p:nvPr/>
              </p:nvGrpSpPr>
              <p:grpSpPr>
                <a:xfrm>
                  <a:off x="2357280" y="4726080"/>
                  <a:ext cx="718920" cy="71280"/>
                  <a:chOff x="2357280" y="4726080"/>
                  <a:chExt cx="718920" cy="7128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2357280" y="479736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2357280" y="472608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3071160" y="4726080"/>
                  <a:ext cx="718920" cy="71280"/>
                  <a:chOff x="3071160" y="4726080"/>
                  <a:chExt cx="718920" cy="712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3071160" y="479736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3071160" y="472608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3785760" y="4726080"/>
                  <a:ext cx="718560" cy="71280"/>
                  <a:chOff x="3785760" y="4726080"/>
                  <a:chExt cx="718560" cy="7128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>
                    <a:off x="3785760" y="4797360"/>
                    <a:ext cx="718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785760" y="472608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4504680" y="4726080"/>
                  <a:ext cx="718920" cy="71280"/>
                  <a:chOff x="4504680" y="4726080"/>
                  <a:chExt cx="718920" cy="7128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4504680" y="479736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4504680" y="472608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5220720" y="4726080"/>
                  <a:ext cx="718920" cy="71280"/>
                  <a:chOff x="5220720" y="4726080"/>
                  <a:chExt cx="718920" cy="712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5220720" y="479736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5220720" y="472608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" name=""/>
                <p:cNvSpPr/>
                <p:nvPr/>
              </p:nvSpPr>
              <p:spPr>
                <a:xfrm>
                  <a:off x="5935320" y="4726080"/>
                  <a:ext cx="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 rot="5400000">
                <a:off x="4045680" y="2721600"/>
                <a:ext cx="216000" cy="3598560"/>
              </a:xfrm>
              <a:custGeom>
                <a:avLst/>
                <a:gdLst>
                  <a:gd name="textAreaLeft" fmla="*/ 137880 w 216000"/>
                  <a:gd name="textAreaRight" fmla="*/ 216360 w 216000"/>
                  <a:gd name="textAreaTop" fmla="*/ 93600 h 3598560"/>
                  <a:gd name="textAreaBottom" fmla="*/ 3504960 h 359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 rot="16200000">
                <a:off x="4392000" y="3552120"/>
                <a:ext cx="215640" cy="2879640"/>
              </a:xfrm>
              <a:custGeom>
                <a:avLst/>
                <a:gdLst>
                  <a:gd name="textAreaLeft" fmla="*/ 137880 w 215640"/>
                  <a:gd name="textAreaRight" fmla="*/ 216000 w 215640"/>
                  <a:gd name="textAreaTop" fmla="*/ 74880 h 2879640"/>
                  <a:gd name="textAreaBottom" fmla="*/ 2804760 h 28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078080" y="5037120"/>
                <a:ext cx="863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77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创设情境，导入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804960" y="5110200"/>
            <a:ext cx="72864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反馈与交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你知道方法一中每一步求的是什么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689120" y="5675400"/>
            <a:ext cx="5643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你知道方法二中每一步求的是什么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552680" y="6170760"/>
            <a:ext cx="6000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沟通与比较：两种方法有什么相同和不同之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95640" y="1341360"/>
            <a:ext cx="3405240" cy="1978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93760" y="3198960"/>
            <a:ext cx="3888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法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总份数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每份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浓缩液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④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水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927680" y="3213000"/>
            <a:ext cx="4319640" cy="1891440"/>
            <a:chOff x="4927680" y="3213000"/>
            <a:chExt cx="4319640" cy="1891440"/>
          </a:xfrm>
        </p:grpSpPr>
        <p:sp>
          <p:nvSpPr>
            <p:cNvPr id="107" name=""/>
            <p:cNvSpPr/>
            <p:nvPr/>
          </p:nvSpPr>
          <p:spPr>
            <a:xfrm>
              <a:off x="4927680" y="3213000"/>
              <a:ext cx="4319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法二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①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份数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②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浓缩液有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L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③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有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L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7039080" y="3957480"/>
              <a:ext cx="530280" cy="745200"/>
              <a:chOff x="7039080" y="3957480"/>
              <a:chExt cx="530280" cy="745200"/>
            </a:xfrm>
          </p:grpSpPr>
          <p:sp>
            <p:nvSpPr>
              <p:cNvPr id="109" name=""/>
              <p:cNvSpPr/>
              <p:nvPr/>
            </p:nvSpPr>
            <p:spPr>
              <a:xfrm>
                <a:off x="7064640" y="42796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39080" y="39574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83360" y="434340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618240" y="4373640"/>
              <a:ext cx="504720" cy="730800"/>
              <a:chOff x="6618240" y="4373640"/>
              <a:chExt cx="504720" cy="730800"/>
            </a:xfrm>
          </p:grpSpPr>
          <p:sp>
            <p:nvSpPr>
              <p:cNvPr id="113" name=""/>
              <p:cNvSpPr/>
              <p:nvPr/>
            </p:nvSpPr>
            <p:spPr>
              <a:xfrm>
                <a:off x="6618240" y="46814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21480" y="43736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656400" y="474516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Rectangle 2"/>
          <p:cNvSpPr/>
          <p:nvPr/>
        </p:nvSpPr>
        <p:spPr>
          <a:xfrm>
            <a:off x="611280" y="1465200"/>
            <a:ext cx="51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分析与解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11280" y="1465200"/>
            <a:ext cx="51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回顾与反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77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创设情境，导入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1530360" y="440856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如何检验解答是否正确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298600" y="4726080"/>
            <a:ext cx="3283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需要检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浓缩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浓缩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305080"/>
            <a:ext cx="38876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法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总份数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每份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浓缩液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④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水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927680" y="2295360"/>
            <a:ext cx="4319640" cy="1891440"/>
            <a:chOff x="4927680" y="2295360"/>
            <a:chExt cx="4319640" cy="1891440"/>
          </a:xfrm>
        </p:grpSpPr>
        <p:sp>
          <p:nvSpPr>
            <p:cNvPr id="123" name=""/>
            <p:cNvSpPr/>
            <p:nvPr/>
          </p:nvSpPr>
          <p:spPr>
            <a:xfrm>
              <a:off x="4927680" y="2295360"/>
              <a:ext cx="4319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法二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①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份数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②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浓缩液有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L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③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有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L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7039080" y="3039840"/>
              <a:ext cx="530280" cy="745200"/>
              <a:chOff x="7039080" y="3039840"/>
              <a:chExt cx="530280" cy="745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064640" y="33620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039080" y="30398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83360" y="342576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618240" y="3456000"/>
              <a:ext cx="504720" cy="730800"/>
              <a:chOff x="6618240" y="3456000"/>
              <a:chExt cx="504720" cy="730800"/>
            </a:xfrm>
          </p:grpSpPr>
          <p:sp>
            <p:nvSpPr>
              <p:cNvPr id="129" name=""/>
              <p:cNvSpPr/>
              <p:nvPr/>
            </p:nvSpPr>
            <p:spPr>
              <a:xfrm>
                <a:off x="6618240" y="3763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21480" y="3456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56400" y="382752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应用，拓展思路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755640" y="1413000"/>
            <a:ext cx="7921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某妇产科医院上月新生婴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名，男女婴儿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之比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上月新生男女婴儿各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3"/>
          <p:cNvSpPr/>
          <p:nvPr/>
        </p:nvSpPr>
        <p:spPr>
          <a:xfrm>
            <a:off x="1189080" y="5094360"/>
            <a:ext cx="597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答：上月新生男婴儿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，女婴儿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971640" y="5857920"/>
            <a:ext cx="7388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观察上面两道题，说一说按比例分配问题有什么特点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决此类问题时要注意什么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0000" y="2781360"/>
            <a:ext cx="2665440" cy="173916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方法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392720" y="2568600"/>
            <a:ext cx="3453840" cy="2481840"/>
            <a:chOff x="4392720" y="2568600"/>
            <a:chExt cx="3453840" cy="2481840"/>
          </a:xfrm>
        </p:grpSpPr>
        <p:sp>
          <p:nvSpPr>
            <p:cNvPr id="138" name=""/>
            <p:cNvSpPr/>
            <p:nvPr/>
          </p:nvSpPr>
          <p:spPr>
            <a:xfrm>
              <a:off x="4463640" y="2568600"/>
              <a:ext cx="3382920" cy="21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方法二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人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人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101920" y="3654360"/>
              <a:ext cx="847080" cy="778680"/>
              <a:chOff x="5101920" y="3654360"/>
              <a:chExt cx="847080" cy="778680"/>
            </a:xfrm>
          </p:grpSpPr>
          <p:sp>
            <p:nvSpPr>
              <p:cNvPr id="140" name=""/>
              <p:cNvSpPr/>
              <p:nvPr/>
            </p:nvSpPr>
            <p:spPr>
              <a:xfrm>
                <a:off x="5101920" y="4010040"/>
                <a:ext cx="7138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91920" y="3654360"/>
                <a:ext cx="757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236560" y="40734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5094000" y="4272120"/>
              <a:ext cx="847080" cy="778320"/>
              <a:chOff x="5094000" y="4272120"/>
              <a:chExt cx="847080" cy="778320"/>
            </a:xfrm>
          </p:grpSpPr>
          <p:sp>
            <p:nvSpPr>
              <p:cNvPr id="144" name=""/>
              <p:cNvSpPr/>
              <p:nvPr/>
            </p:nvSpPr>
            <p:spPr>
              <a:xfrm>
                <a:off x="5094000" y="4627440"/>
                <a:ext cx="7138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184000" y="4272120"/>
                <a:ext cx="757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28640" y="46908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392720" y="2784600"/>
              <a:ext cx="2879280" cy="223344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755640" y="1557360"/>
            <a:ext cx="8251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一个长方形的花坛，周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，长与宽的比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个花坛的长和宽分别是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应用，拓展思路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6:26:1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